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D6E-4CE7-4F60-8536-E85B7AC4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5F2-42B0-444F-8823-16CC3E26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3A6-87E0-46E8-95D7-3C47CE15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134-076A-4A72-90F5-1D33EB1B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92E6-4BE0-4EE6-B567-3672808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31B9-D1D7-4C33-AA77-B1C5C3C2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9AD9-63CF-441C-A502-643F309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C434-6CE7-4D67-B504-A5CA83F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30FD-E840-4507-A748-C6F0CBD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ADBB-0DF1-4999-99C6-2F07536A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F999-94DB-4ADC-A49B-D3852E0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4C6-A974-4087-9102-0F3D30F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3F8F-5022-4FF8-B072-5AAAB3C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9D2C-36AD-4EEA-A7D4-28D4D6C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CA40-BD56-41BE-B0A7-6950D2F0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712-18B7-4DB8-8756-946010FC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4854-F94B-4F31-A1A2-021DD226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FAF-AC60-4E08-9419-355A498E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EBB-4A4A-470C-8533-B435BBFA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962-1D3A-44C1-834E-DA818E9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9F5-EA78-451C-B86D-8368D950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A47-99DA-41E6-BCED-FD9CB6A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D33-91EF-43C6-A6C4-C861436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EDF-040E-4F5F-99D5-5556638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4186-019D-47A6-A10B-6430CF5A44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681-E45F-416C-AA3C-29BC75A715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hyperlink" Target="http://www.csos.jhu.edu/P2000/nnps_model/school/sixtypes/type2.htm" TargetMode="External"/><Relationship Id="rId3" Type="http://schemas.openxmlformats.org/officeDocument/2006/relationships/hyperlink" Target="http://www.csos.jhu.edu/P2000/nnps_model/school/sixtypes/type3.htm" TargetMode="External"/><Relationship Id="rId4" Type="http://schemas.openxmlformats.org/officeDocument/2006/relationships/hyperlink" Target="http://www.csos.jhu.edu/P2000/nnps_model/school/sixtypes/type4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3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4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ix Types of Involvement: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eys to Successful Partnerships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304812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pstein, et. al. 2002.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School, Family, and Community Partnerships: Your Handbook for Ac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Second Edi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. Thousand Oaks, CA: Corwin Press, Inc.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x Types of Involvemen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ommunic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Volunt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Learning at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ng with the Community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families with parenting skills and setting home conditions to support children as students. Also, assist schools to better understand famili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mmunica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uct effective communications from school-to-home and from home-to-school about school programs and student progre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olunteer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e volunteers and audiences to support the school and students. Provide volunteer opportunities in various locations and at various tim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earning at Hom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 families with their children on homework and other curriculum-related activities and decis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cision Making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families as participants in school decisions, and develop parent leaders and representativ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the Commun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rdinate resources and services from the community for families, students, and the school, and provide services to the communit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7:25:25Z</dcterms:created>
  <dc:creator>Thomas DiPaola</dc:creator>
  <dc:description/>
  <dc:language>en-US</dc:language>
  <cp:lastModifiedBy>Thomas DiPaola</cp:lastModifiedBy>
  <dcterms:modified xsi:type="dcterms:W3CDTF">2009-08-27T18:36:57Z</dcterms:modified>
  <cp:revision>2</cp:revision>
  <dc:subject/>
  <dc:title>Six Types of Involvement: Keys to Successful Partnerships </dc:title>
</cp:coreProperties>
</file>